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83021"/>
        <c:axId val="34479073"/>
      </c:barChart>
      <c:catAx>
        <c:axId val="48183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79073"/>
        <c:crosses val="autoZero"/>
        <c:auto val="1"/>
        <c:lblAlgn val="ctr"/>
        <c:lblOffset val="100"/>
        <c:noMultiLvlLbl val="0"/>
      </c:catAx>
      <c:valAx>
        <c:axId val="34479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83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A3F-83DB-4D88-BBC2-8D124A32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202-CBF2-44F7-9087-3A2EB91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786-3742-4D48-84EF-CE47546E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BE1-E9B0-4364-96CC-3DAFCC4B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8E7-2F05-4493-9F85-DC840863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5D2-C8FE-443F-9B89-E9101BD6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AF0-8223-49A2-9C1F-FE032E6B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BFF-1CDD-4F4B-9B84-31B19F84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FB4-F48C-4B78-93B5-262839B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CA0-15E7-4531-AE4A-FAFFDE4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8BF-D5AB-41D3-A880-07E132A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43A-CC10-4E1F-85C7-60A0B39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28FF-7387-4D1E-BDEC-218F3FBBBB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